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9863-CDF9-4E53-8FE0-927C6967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2351-CA71-4F9C-ADC6-A4456919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B130-9D28-443B-9A43-8D45B362C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3FDB-876C-45DC-90E4-E0528158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CE91-C815-433C-8C0A-BD04B793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B639-1F27-4ED4-99A9-0E199DD8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17B4-EF59-4F53-8148-06C0D659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3F47-E9B8-47D1-813B-9DB40C6D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E08B-0723-4789-B4C1-D6BE792E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DBDE-7FA9-42EE-8CDD-59AC703B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D27C-39E6-4744-A298-B07B8A73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C716-D46B-446B-8A56-933D1CA2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1CCB-F8D9-46C0-89D1-9AF90903EBF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0" t="0" r="0" b="64088"/>
          <a:stretch/>
        </p:blipFill>
        <p:spPr>
          <a:xfrm>
            <a:off x="0" y="44280"/>
            <a:ext cx="9109080" cy="1124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rcRect l="0" t="43678" r="0" b="0"/>
          <a:stretch/>
        </p:blipFill>
        <p:spPr>
          <a:xfrm>
            <a:off x="179280" y="2708280"/>
            <a:ext cx="871380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ميت سورة الأعراف بهذا الاس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لفظ (الأعراف) فيها قال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السور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206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7160" y="3141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ور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 إلا الآيات من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63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 إلى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70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 فمدن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-115920" y="-66600"/>
            <a:ext cx="9352080" cy="961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"/>
          <p:cNvPicPr/>
          <p:nvPr/>
        </p:nvPicPr>
        <p:blipFill>
          <a:blip r:embed="rId2"/>
          <a:stretch/>
        </p:blipFill>
        <p:spPr>
          <a:xfrm>
            <a:off x="3564000" y="1916280"/>
            <a:ext cx="5295960" cy="57600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371628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4076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43354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6"/>
          <p:cNvCxnSpPr/>
          <p:nvPr/>
        </p:nvCxnSpPr>
        <p:spPr>
          <a:xfrm flipH="1">
            <a:off x="8456040" y="49413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479736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بعث والجنة والنا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8"/>
          <p:cNvSpPr/>
          <p:nvPr/>
        </p:nvSpPr>
        <p:spPr>
          <a:xfrm>
            <a:off x="8820000" y="4327560"/>
            <a:ext cx="0" cy="2019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19"/>
          <p:cNvCxnSpPr/>
          <p:nvPr/>
        </p:nvCxnSpPr>
        <p:spPr>
          <a:xfrm flipH="1">
            <a:off x="8456040" y="4652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4459320"/>
            <a:ext cx="813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وحيد والرسال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1"/>
          <p:cNvCxnSpPr/>
          <p:nvPr/>
        </p:nvCxnSpPr>
        <p:spPr>
          <a:xfrm flipH="1">
            <a:off x="8456040" y="533196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5157720"/>
            <a:ext cx="8208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قصص الأنبياء والأمم السابق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3"/>
          <p:cNvCxnSpPr/>
          <p:nvPr/>
        </p:nvCxnSpPr>
        <p:spPr>
          <a:xfrm flipH="1">
            <a:off x="8456040" y="566856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551808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لجة بعض القضايا الاجتماع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5"/>
          <p:cNvCxnSpPr/>
          <p:nvPr/>
        </p:nvCxnSpPr>
        <p:spPr>
          <a:xfrm flipH="1">
            <a:off x="8458920" y="60098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5600" y="5834160"/>
            <a:ext cx="820908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ذكر بعض الآداب والأخلاق الإسلام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27"/>
          <p:cNvCxnSpPr/>
          <p:nvPr/>
        </p:nvCxnSpPr>
        <p:spPr>
          <a:xfrm flipH="1">
            <a:off x="8458920" y="634680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عنوان 1"/>
          <p:cNvSpPr/>
          <p:nvPr/>
        </p:nvSpPr>
        <p:spPr>
          <a:xfrm>
            <a:off x="255600" y="6194520"/>
            <a:ext cx="8209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خطورة المعاصي والإعراض عن طاعة الل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-115920" y="-66600"/>
            <a:ext cx="9352080" cy="96192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5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3"/>
          <a:stretch/>
        </p:blipFill>
        <p:spPr>
          <a:xfrm>
            <a:off x="1424160" y="1700280"/>
            <a:ext cx="73720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